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3883-E14F-4AD7-A435-91315ED35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mmercial one more time and provide reflection cards. (Ke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put their names on them and col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send to them in the courier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wiki with the pic link. (Li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hem to the address on their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m the resource pages and they can access it whenever they want to access resources regarding co teach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introduce ourselves (Kelly &amp; Linda)TEAM T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viewing commercial remind the participants that communication is the key to a successful teaching relationship.  Trust must be built over time.  Today we will have them partner up with the same partner for the hour.  Have them partner up with an educator in their secondary level. (Kelly) (one teach one ass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phor explanation (Linda &amp; Kelly) TEAM TEAC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ners complete poster (Li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eachers hang their metapho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Inspiration/brainstorm as a group (Kelly) One teach/One ass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saved template to make a comparis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Inspiration/brainstorm as a group (Kelly) One teach/One ass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saved template to make a comparis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9DA37-BCD5-4F93-B653-50019F3BE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49FC1-FAA1-48E4-88E5-AD2A20BFB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FEF88-AA6E-4D1A-9973-47AA06D1C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3A2B0-A504-4D64-92FC-D195E27D6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ED9A0-5ED0-4B0E-A6BA-AE78C4C90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1D3A0-2ACA-481A-9A29-4396A7D33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15593-E403-45BC-B9CC-662F772ED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17C1D-B829-41EA-B7D9-8EA9DEB43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B0C15-3581-47FA-9FA3-E4773CEB1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F38AF-4151-4178-875B-14B4D69AB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BAAC3-FAD5-4A43-B8F8-33AA088A3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A9BBD-987A-416B-9DBB-F6AF854B7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r>
              <a:rPr b="0" lang="en-US" sz="1400" spc="-1" strike="noStrike">
                <a:solidFill>
                  <a:srgbClr val="000000"/>
                </a:solidFill>
                <a:latin typeface="Arial"/>
              </a:rPr>
              <a:t>Kelly Kirby &amp; Linda Mangiafico</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DBC9A-4E2F-485D-8234-9045A8E0CF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6629400" y="6172200"/>
            <a:ext cx="1828800" cy="523800"/>
          </a:xfrm>
          <a:prstGeom prst="rect">
            <a:avLst/>
          </a:prstGeom>
          <a:ln w="0">
            <a:noFill/>
          </a:ln>
        </p:spPr>
      </p:pic>
      <p:pic>
        <p:nvPicPr>
          <p:cNvPr id="6" name="" descr=""/>
          <p:cNvPicPr/>
          <p:nvPr/>
        </p:nvPicPr>
        <p:blipFill>
          <a:blip r:embed="rId3"/>
          <a:stretch/>
        </p:blipFill>
        <p:spPr>
          <a:xfrm>
            <a:off x="4724280" y="3505320"/>
            <a:ext cx="4419720" cy="266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fcpscoteaching.wikispaces.com/" TargetMode="External"/><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 Someone Wh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ind a participant who can sign for each of the categories on the handout.  Each person may only sign one line on your sheet. Make sure to introduce yourself to each person you m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ve Journal</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ow will you turn one of your Con’s of co-teaching into a Pr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 teaching Wiki</a:t>
            </a:r>
            <a:endParaRPr b="0" lang="en-US" sz="4400" spc="-1" strike="noStrike">
              <a:solidFill>
                <a:srgbClr val="000000"/>
              </a:solidFill>
              <a:latin typeface="Arial"/>
            </a:endParaRPr>
          </a:p>
        </p:txBody>
      </p:sp>
      <p:sp>
        <p:nvSpPr>
          <p:cNvPr id="70"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a:hlinkClick r:id="rId1"/>
          </p:cNvPr>
          <p:cNvPicPr/>
          <p:nvPr/>
        </p:nvPicPr>
        <p:blipFill>
          <a:blip r:embed="rId2"/>
          <a:stretch/>
        </p:blipFill>
        <p:spPr>
          <a:xfrm>
            <a:off x="685800" y="1523880"/>
            <a:ext cx="4114800" cy="350856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entury Gothic"/>
              </a:rPr>
              <a:t>Making it Work for You and Your Students</a:t>
            </a:r>
            <a:endParaRPr b="0" lang="en-US" sz="4400" spc="-1" strike="noStrike">
              <a:solidFill>
                <a:srgbClr val="000000"/>
              </a:solidFill>
              <a:latin typeface="Arial"/>
            </a:endParaRPr>
          </a:p>
        </p:txBody>
      </p:sp>
      <p:sp>
        <p:nvSpPr>
          <p:cNvPr id="53" name="PlaceHolder 2"/>
          <p:cNvSpPr>
            <a:spLocks noGrp="1"/>
          </p:cNvSpPr>
          <p:nvPr>
            <p:ph type="subTitle"/>
          </p:nvPr>
        </p:nvSpPr>
        <p:spPr>
          <a:xfrm>
            <a:off x="1600200" y="304920"/>
            <a:ext cx="6400800" cy="1752480"/>
          </a:xfrm>
          <a:prstGeom prst="rect">
            <a:avLst/>
          </a:prstGeom>
          <a:noFill/>
          <a:ln w="0">
            <a:noFill/>
          </a:ln>
        </p:spPr>
        <p:txBody>
          <a:bodyPr lIns="90000" rIns="90000" tIns="46800" bIns="4680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o-Teaching</a:t>
            </a:r>
            <a:endParaRPr b="0" lang="en-US" sz="7200" spc="-1" strike="noStrike">
              <a:solidFill>
                <a:srgbClr val="000000"/>
              </a:solidFill>
              <a:latin typeface="Arial"/>
            </a:endParaRPr>
          </a:p>
        </p:txBody>
      </p:sp>
      <p:pic>
        <p:nvPicPr>
          <p:cNvPr id="54" name="" descr=""/>
          <p:cNvPicPr/>
          <p:nvPr/>
        </p:nvPicPr>
        <p:blipFill>
          <a:blip r:embed="rId1"/>
          <a:stretch/>
        </p:blipFill>
        <p:spPr>
          <a:xfrm>
            <a:off x="4724280" y="3505320"/>
            <a:ext cx="4419720" cy="266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y a class on co-teac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llabu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60"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a community of learn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te the “Why’s” of co-te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the Pro’s and Con’s of co-te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 your needs as a learner in this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04920" y="380880"/>
            <a:ext cx="8686800" cy="35053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teaching is like </a:t>
            </a:r>
            <a:r>
              <a:rPr b="1" i="1" lang="en-US" sz="3600" spc="-1" strike="noStrike" u="sng">
                <a:solidFill>
                  <a:srgbClr val="000000"/>
                </a:solidFill>
                <a:uFillTx/>
                <a:latin typeface="Arial"/>
              </a:rPr>
              <a:t>a sports ca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cause</a:t>
            </a:r>
            <a:r>
              <a:rPr b="0" lang="en-US" sz="2800" spc="-1" strike="noStrike">
                <a:solidFill>
                  <a:srgbClr val="000000"/>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it’s open to fresh air and new ide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you’re always shifting gea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there’s lots of stuff in a small space</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are lots of models from which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o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28600" y="304920"/>
            <a:ext cx="8610480" cy="35049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teaching is like ___________________</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o-Teach?</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igsaw</a:t>
            </a:r>
            <a:endParaRPr b="0" lang="en-US" sz="4400" spc="-1" strike="noStrike">
              <a:solidFill>
                <a:srgbClr val="000000"/>
              </a:solidFill>
              <a:latin typeface="Arial"/>
            </a:endParaRPr>
          </a:p>
        </p:txBody>
      </p:sp>
      <p:graphicFrame>
        <p:nvGraphicFramePr>
          <p:cNvPr id="66" name=""/>
          <p:cNvGraphicFramePr/>
          <p:nvPr/>
        </p:nvGraphicFramePr>
        <p:xfrm>
          <a:off x="457200" y="1600200"/>
          <a:ext cx="8229600" cy="1828800"/>
        </p:xfrm>
        <a:graphic>
          <a:graphicData uri="http://schemas.openxmlformats.org/drawingml/2006/table">
            <a:tbl>
              <a:tblPr/>
              <a:tblGrid>
                <a:gridCol w="2590920"/>
                <a:gridCol w="5638680"/>
              </a:tblGrid>
              <a:tr h="70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 prepare to co-teach, role of the principal, role of co-teach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s co-teaching, plann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ng, Assessing, Final Though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3T14:43:10Z</dcterms:created>
  <dc:creator>fcps</dc:creator>
  <dc:description/>
  <dc:language>en-US</dc:language>
  <cp:lastModifiedBy>fcps</cp:lastModifiedBy>
  <dcterms:modified xsi:type="dcterms:W3CDTF">2011-02-28T15:32:22Z</dcterms:modified>
  <cp:revision>13</cp:revision>
  <dc:subject/>
  <dc:title>Making it Work for You and Your Students</dc:title>
</cp:coreProperties>
</file>